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613-0A83-4555-B475-1CB21EAD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846-B69C-41D2-BC86-30BF7284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1C0-4154-4D31-9470-C7B382C3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54C-1ADF-419D-92E6-A621EB3D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792-CB73-4429-9947-BD91A11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F1D-D901-498E-87E3-A3879D2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D55-EDD8-4F8A-AEE7-F3C1381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945-61EB-40D7-8B37-9DCF4F3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C8F-6126-415F-88B5-7B3DDAC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27E-B40B-4B36-AB9E-05FF215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0AC-02DA-4B0A-A9C8-27000B7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64D-BBE7-4275-8BA3-3846862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030-93D3-46ED-BA6F-4585A91484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2437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ffff"/>
                </a:solidFill>
                <a:latin typeface="Times New Roman"/>
              </a:rPr>
              <a:t>FIBROSI CISTICA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Attualita’ nella diagnosi di Fibrosi Cis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1440" y="2209680"/>
            <a:ext cx="8669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NO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del SUD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GENE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ZA di POTENZIALE NAS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di SUPPOR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Fenotipi clinici atipici evocativi             della malattia*                        </a:t>
            </a:r>
            <a:r>
              <a:rPr b="0" lang="it-IT" sz="3200" spc="-1" strike="noStrike">
                <a:solidFill>
                  <a:srgbClr val="fafd00"/>
                </a:solidFill>
                <a:latin typeface="Times New Roman"/>
              </a:rPr>
              <a:t>1/2</a:t>
            </a:r>
            <a:br>
              <a:rPr sz="4000"/>
            </a:br>
            <a:r>
              <a:rPr b="0" lang="it-IT" sz="2400" spc="-1" strike="noStrike">
                <a:solidFill>
                  <a:srgbClr val="fafd00"/>
                </a:solidFill>
                <a:latin typeface="Times New Roman"/>
              </a:rPr>
              <a:t>*Test del sudore positivo o normale/bordeline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1440" y="2209680"/>
            <a:ext cx="8669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patia bronchiectasica con sufficienza pancre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ficienza pancreatica senza sintomi respiratori appare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usite cronica e poliposi (non allergica) iso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rosi biliare senza o con scarsi sintomi respira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creatite ricorrente/cro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Fenotipi clinici atipici evocativi </a:t>
            </a:r>
            <a:br>
              <a:rPr sz="4000"/>
            </a:b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della malattia*                       </a:t>
            </a:r>
            <a:r>
              <a:rPr b="0" lang="it-IT" sz="3200" spc="-1" strike="noStrike">
                <a:solidFill>
                  <a:srgbClr val="fafd00"/>
                </a:solidFill>
                <a:latin typeface="Times New Roman"/>
              </a:rPr>
              <a:t>2/2</a:t>
            </a:r>
            <a:br>
              <a:rPr sz="4000"/>
            </a:br>
            <a:r>
              <a:rPr b="0" lang="it-IT" sz="2400" spc="-1" strike="noStrike">
                <a:solidFill>
                  <a:srgbClr val="fafd00"/>
                </a:solidFill>
                <a:latin typeface="Times New Roman"/>
              </a:rPr>
              <a:t>*Test del sudore positivo o normale/bordeline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1440" y="2209680"/>
            <a:ext cx="8669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rtilità maschile senza CAV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rella di CAVD senza sintomi apparenti (stesso genotip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chi FC fert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telli – sorelle di FC senza sintomi (stesso genotip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mbini con screening neonatale positivo senza sinto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Indicazioni all’esecuzione </a:t>
            </a:r>
            <a:br>
              <a:rPr sz="4400"/>
            </a:b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del Test del Sudo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ità dei test di scre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ità per fibrosi cis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zioni cliniche: generali e specific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1440" y="380520"/>
            <a:ext cx="887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Indicazioni cliniche all’analisi di mutazion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9051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zione tipica e atipica con test del sudore incer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 prenatale (coppia di portator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della specificità dello screening neonat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za di patologie potenzialmente associate a CFRT (infertilità, bronchiectasi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creatite ricorrente cro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 pre-impianto dopo iniezione intracitoplasmatica da coppia di porta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afd00"/>
                </a:solidFill>
                <a:latin typeface="Times New Roman"/>
              </a:rPr>
              <a:t>PSEUDOMONAS  AERUGIN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E della PERDIT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a FUNZIONE POLMON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GNIFICANTE PREDITTORE di MORTALITA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TERAPIA della FIBROSI CIST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 antibiotici comunemente usati son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IMIX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limicina – colist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A-LATTAM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arbenicillina – cefaloridina – ticarcillina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azidime – amoxicill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OGLICOS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entamicina – tobramicina – amicacina – netilmic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BETA-LATTAMIC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STO POCO GRADEV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RSA SOLUBILITA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A VISCOSITA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co utilizzati per via aerosol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POLIMIXINE</a:t>
            </a:r>
            <a:br>
              <a:rPr sz="4400"/>
            </a:b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(colisti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otico di prima scel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sso in associazione con CIPROFLOXAC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a ora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AMINOGLICOSIDI (tobramici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RSAMENTE ASSORBIT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averso le MUC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PPLICAZIONE IMPORTA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lla terapia della FIBROSI CIS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30456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Definizione e patogenes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4640" y="160020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’ una malattia genetica che interessa più orga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espressività della malattia è strettamente correlata all’espressività gene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FENOTIPI NOTI DELLA MALATTIA RAPPRESENTANO SOLO LA PARTE PIU’ CONOSCIUTA DI UNA PATOLOGIA ANCORA TUTTA DA SCOPR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AMINOGLICOSIDI (tobramici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MINISTRATA FREQUENTEM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ENDOVE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E ESACERBAZION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LA MALATT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afd00"/>
                </a:solidFill>
                <a:latin typeface="Times New Roman"/>
              </a:rPr>
              <a:t>AMINOGLICOSIDI (tobramici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38040" y="1523880"/>
            <a:ext cx="9753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a aerosolic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CURA e BEN TOLLERATA in pazienti con F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A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FUNZIONALITA’ RESPIRAT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DUCE  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URATA e FREQU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lle OSPEDALIZZAZ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ECESSITA’ di CONCOMITANTE  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    TERAPIA per lo PSEUDOM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7440" y="2438280"/>
            <a:ext cx="690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ffff"/>
                </a:solidFill>
                <a:latin typeface="Times New Roman"/>
              </a:rPr>
              <a:t>ASM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TTIA INFIAMMATO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N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e di DESTRUTTURAZIONE 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DELLING delle vie ae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Remodelling delle vie ae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ivazi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MASTCELLULE,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ULE EPITELIALI, FIBROBLASTI, MIOFIBROBLASTI, CELLULE ENDOTELI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 </a:t>
            </a:r>
            <a:r>
              <a:rPr b="0" lang="it-IT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SPESSIMENTO della MEMBRANA BAS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 DEPOSIZIONE di COLLAG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 NEOFORMAZIONE ed IPERPLASIA delle FIBRE MUSCOLARI  LIS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 NEOFORMAZIONE VASCOLAR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I PRECO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ERVENTO FARMACOLOGICO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PPROPRIATO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o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DIFICARE LA STORIA NATURALE della MALATT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IAGNOS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2057400"/>
            <a:ext cx="94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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enza dei sintomi di ostruzione bronchi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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ibilità anche parziale e spontanea dell'ostru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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clusione di patologie broncoostrut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n caso di sospetto di ASMA…</a:t>
            </a:r>
            <a:br>
              <a:rPr sz="4400"/>
            </a:br>
            <a:r>
              <a:rPr b="0" i="1" lang="it-IT" sz="4000" spc="-1" strike="noStrike">
                <a:solidFill>
                  <a:srgbClr val="ff9900"/>
                </a:solidFill>
                <a:latin typeface="Times New Roman"/>
              </a:rPr>
              <a:t>INDAGINI di PRIMO livell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UDIO d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S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ZIONALITA’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IRATORI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RONCOREVERSIBILITA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LUT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CK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RGOLO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in caso di DUBBIO DIAGNOSTICO…</a:t>
            </a:r>
            <a:br>
              <a:rPr sz="4000"/>
            </a:br>
            <a:r>
              <a:rPr b="0" i="1" lang="it-IT" sz="4000" spc="-1" strike="noStrike">
                <a:solidFill>
                  <a:srgbClr val="ff9900"/>
                </a:solidFill>
                <a:latin typeface="Times New Roman"/>
              </a:rPr>
              <a:t>INDAGINI di SECONDO livell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909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METRIA con VOLUMI POLMONA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di BRONCORESPONSIVITA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KERS di FLOGOS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 espirato, eosinofili ed ECP nell'espettorat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in caso di MANCATA RISPOSTA </a:t>
            </a:r>
            <a:br>
              <a:rPr sz="4000"/>
            </a:br>
            <a:r>
              <a:rPr b="0" lang="it-IT" sz="4000" spc="-1" strike="noStrike">
                <a:solidFill>
                  <a:srgbClr val="ffff00"/>
                </a:solidFill>
                <a:latin typeface="Times New Roman"/>
              </a:rPr>
              <a:t>alla TERAPIA…</a:t>
            </a:r>
            <a:br>
              <a:rPr sz="4000"/>
            </a:b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o nell’ASMA PERSISTENTE</a:t>
            </a:r>
            <a:br>
              <a:rPr sz="4400"/>
            </a:br>
            <a:r>
              <a:rPr b="0" i="1" lang="it-IT" sz="4000" spc="-1" strike="noStrike">
                <a:solidFill>
                  <a:srgbClr val="ff9900"/>
                </a:solidFill>
                <a:latin typeface="Times New Roman"/>
              </a:rPr>
              <a:t>INDAGINI di TERZO livell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5909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43200"/>
            <a:ext cx="91440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tazione immunolog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 torace e seni paranasa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ttroliti nel sud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cardiograf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grafia esofago-gastr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/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metri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o morfogenetico delle cig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7880" y="22824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Proteina del Canale del Cloro (CFT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7680" y="2362320"/>
            <a:ext cx="8061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versa espressività della malattia è legata al TIPO di MUTAZIONE e al grado di DANNO FUNZIONALE della PROTEINA del CANALE del CLO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gli STADI e la TERAP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52280" y="2133720"/>
            <a:ext cx="9448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livello ASMA EPISO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livello ASMA PERSISTENTE LI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ZO livello ASMA MODERATO PERSIS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RTO livello ASMA GRAVE PERSIS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 live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ß</a:t>
            </a:r>
            <a:r>
              <a:rPr b="0" lang="it-IT" sz="4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DRENERGIC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-ACTING all'occorrenz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STEROIDI per os negli accessi grav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I live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752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ß</a:t>
            </a:r>
            <a:r>
              <a:rPr b="0" lang="it-IT" sz="4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DRENERGIC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-A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CROMON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ANTAGONISTI dei LEUCOTRIEN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TEOFILLINA RETAR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II live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CORTICOSTERO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USO TOPIC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0" lang="it-IT" sz="4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DRENERGICI LONG-A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/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OFILLINA RET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V live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CORTICOSTERO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USO TOPIC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 </a:t>
            </a:r>
            <a:r>
              <a:rPr b="0" lang="it-IT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TO DOSAGGI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it-IT" sz="4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DRENERGICI LONG-A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/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OFILLINA RET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MARKER BIOLOGICI PREDITTIV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TTIA INFIAMMATO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N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e di DESTRUTTURAZIONE 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DELLING delle vie ae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 STATO DI FLOGOSI BRONCH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 valutato attraverso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pira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OSINOFI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o sputo indo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’escreto condensa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o stato attual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N SONO DISPONIBI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I SUFFICIEN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 indichi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LE DISPONIBILITA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 MARKERS BIOLOGICI PREDITTI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AS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i PROGRESS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ASMA EPISODICO a RICORR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NDICE PREDITTIVO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dell’AS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riteri MAGGIORI 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ori con 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zema nel bamb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riteri MINORI        </a:t>
            </a:r>
            <a:r>
              <a:rPr b="0" lang="en-US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osinofilia &gt;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ezing senza febb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ite aller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I BAMBINI CON WHEEZ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I PRIMI 3 ANNI DI VI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esenza d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criteri MAGGIORI o di 2/3 criteri MINO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ULTA ASSOCIAT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SISTENZ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M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li anni successi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Riduzione funzionale del CFRT &lt;1%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2680" y="1600200"/>
            <a:ext cx="860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responsabile della forma classica di fibrosi cis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e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SUFFICIENZA PANCRE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LATTIA POLMON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EST del SUDORE (TS) PATOLO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SSENZA dei VASI DEFERENTI (CAV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ISTE il RISCHIO di PROGRESS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 ASMA EPISOD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ASMA PERSIST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zienti con RECIDIVA IMPORTA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o 6 settim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ù di 3 episodi di riacutizzazione/an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LIMITI della TERAPIA TOP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13372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FACILE ADERENZA al PIANO TERAPEUT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RSA PENETRAZI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 FARMACI nella PORZIONE DISTALE delle VIE AE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ffff00"/>
                </a:solidFill>
                <a:latin typeface="Times New Roman"/>
              </a:rPr>
              <a:t>in definitiva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765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INDUBBIO CHE LE RECENTI STRATEGIE TERAPEUTICHE DELL’AS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no determinat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EVOLE CONTROLLO dei SINTO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LITA’ di VITA NORM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520" y="152280"/>
            <a:ext cx="8196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Riduzione funzionale del CFRT del 5%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440" y="175248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responsabile della malatt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ZA INSUFFICIENZA PANCRE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 PATOLOGIA PANCRE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EST del SUDORE PATOLO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SSENZA CONGENITA dei VASI DEFER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3960" y="3045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Riduzione del CFRT del 10%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1440" y="1752480"/>
            <a:ext cx="866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responsabile SO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dell’AGENESIA dei DOTTI DEFERENTI (CA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I problemi di oggi legati alla diagnos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1440" y="2209680"/>
            <a:ext cx="8669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DISPONIBILITA’ DI NUOVE TECNICHE DIAGNOSTICHE HANNO CONSIDEREVOLMENTE ALLARGATO LO SPETTRO CLINICO DELLA FIBROSI CI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I problemi di oggi legati alla diagnos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5000" y="2133720"/>
            <a:ext cx="900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O QUINDI EMER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EROSE FORME ATIPI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tterizzate 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- ESPRESSIONE CLINICA RESPIRATORIA MOD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- SUFFICIENZA PANCRE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- CONCENTRAZIONE ELETTRONICA del SUDORE NOR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45684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afd00"/>
                </a:solidFill>
                <a:latin typeface="Times New Roman"/>
              </a:rPr>
              <a:t>I problemi di oggi legati alla diagnosi</a:t>
            </a:r>
            <a:br>
              <a:rPr sz="4000"/>
            </a:br>
            <a:r>
              <a:rPr b="0" i="1" lang="it-IT" sz="2800" spc="-1" strike="noStrike">
                <a:solidFill>
                  <a:srgbClr val="fafd00"/>
                </a:solidFill>
                <a:latin typeface="Times New Roman"/>
              </a:rPr>
              <a:t>Consensus Statement </a:t>
            </a:r>
            <a:r>
              <a:rPr b="0" lang="it-IT" sz="2800" spc="-1" strike="noStrike">
                <a:solidFill>
                  <a:srgbClr val="fafd00"/>
                </a:solidFill>
                <a:latin typeface="Times New Roman"/>
              </a:rPr>
              <a:t>per la DIAGNOSI</a:t>
            </a:r>
            <a:r>
              <a:rPr b="0" i="1" lang="it-IT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it-IT" sz="1800" spc="-1" strike="noStrike">
                <a:solidFill>
                  <a:srgbClr val="fafd00"/>
                </a:solidFill>
                <a:latin typeface="Times New Roman"/>
              </a:rPr>
              <a:t>(Cystic Fybrosis Foundation nordamericana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8760" y="189000"/>
            <a:ext cx="681120" cy="850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3040" y="2209680"/>
            <a:ext cx="8737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3200" y="1981080"/>
            <a:ext cx="901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mbinazione di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FESTAZIONI CLINICH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         TEST MIRAT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del SUDO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SI GENET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ZA di POTENZIAL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     TEST di SUPPORT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SI di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ZIONALITA’PANCREAT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ERCA MICROBIOLOGIC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AGENTI PATOGENI BATTERI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  ESAMI STRUMENTA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GRAF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C del TORACE e dei SENI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NASA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PSIE GHIANDOLARI RETTALI e SALIVAR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4:34Z</dcterms:created>
  <dc:creator/>
  <dc:description/>
  <dc:language>en-US</dc:language>
  <cp:lastModifiedBy>luca</cp:lastModifiedBy>
  <dcterms:modified xsi:type="dcterms:W3CDTF">2004-03-09T09:30:05Z</dcterms:modified>
  <cp:revision>94</cp:revision>
  <dc:subject/>
  <dc:title/>
</cp:coreProperties>
</file>